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F9AEE14-226C-4258-892C-B000ECD6DE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2B6FD6D-BA44-4960-8E94-2AA77C72E71D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8040" y="4692240"/>
            <a:ext cx="5365800" cy="4489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CD69C52-F40F-48F3-86DA-C4C1AFD8AACF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FB0E6F3-513D-47F9-BFFD-E35746722789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A9197B7-628B-4938-B5B6-AA171019BD98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490CA3C-AD00-41D4-A25B-F1138D38AAA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CB80872-E907-4AA9-B37D-A78EB1B48C7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9976593-2A47-423F-AAA3-52EFF9BBBB18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98040" y="4692240"/>
            <a:ext cx="5365800" cy="44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c7b8c0"/>
              </a:solidFill>
              <a:latin typeface="Century Gothic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4D0EC5A-65E1-4082-A4BA-64A0C520D0B2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5112000" cy="4962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7b8c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BC4F6F6-3CB7-4049-9C9D-DEE6B5A36428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5112000" cy="4962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7b8c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DEF4581-1EB4-497C-AA61-A482A920FFC1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D131A74-DB1A-4E92-B284-67956291614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5FDB87D-4421-4ECE-9303-06EB061B5A0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2F0B05C-F692-4E59-A907-D164313591F9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AD1E930-C64E-431D-99A5-853AA8D9D98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2FC9CD9-E1FC-4E5E-9C65-8F25430E29E7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C8A7-6F1B-4ED9-91DF-4DF1EFCB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388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42B-57A0-4EE9-82C1-C1FB63ED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1144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3FE-DB68-4C7A-949D-75605FA7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2336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248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388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2336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248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FCF8-E693-4AD3-B385-C1EFC8A1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A977-FB27-49E4-8AD5-45741B62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47C8-8BC1-4EED-9C49-DF26C5BF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5713-6D90-4904-85D1-CB1E0F4C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432F-0DBC-4CEF-B612-68B0849E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5EC0-74B0-4D5F-87FC-5FFF1625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762120"/>
            <a:ext cx="7391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E8CD-53CD-48A7-8B6B-F220DE81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B821-B77F-4C61-90AD-635099B0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EE33-7F23-4973-B8C2-AE1D1FEF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1144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6517-994A-4CF3-A920-14EF02C4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4D21-2EDB-4B62-8EE8-8A6A19AE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D03A-8082-4829-BECA-010BF8F0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1144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3B4F-7524-42FD-8871-B256F842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336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2248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336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2248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4CAC-7F12-424B-A7C6-4CC7C00E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3B2-6254-4D88-A020-64AF8B91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3EB-9D00-496B-8318-C2000DD4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5F7-ED9E-4312-8CDC-41855BB5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762120"/>
            <a:ext cx="7391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12F-0C3E-430B-A485-826A5A6C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C28-FC76-425E-9132-5547E71C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1144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A8C-A961-4EE9-8866-CFFD4F23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9C7-B2E1-41B6-A3AC-C2C8A955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ackfade_template"/>
          <p:cNvPicPr/>
          <p:nvPr/>
        </p:nvPicPr>
        <p:blipFill>
          <a:blip r:embed="rId2"/>
          <a:srcRect l="0" t="0" r="0" b="1995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9056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BD49-58DC-4B35-9411-03303F1F7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0" y="1676520"/>
            <a:ext cx="914724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4" name="Arc 3"/>
          <p:cNvSpPr/>
          <p:nvPr/>
        </p:nvSpPr>
        <p:spPr>
          <a:xfrm>
            <a:off x="0" y="843120"/>
            <a:ext cx="205740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B6F1-C6C8-4F6D-94AE-038F5FA8EDC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114800" y="2362320"/>
            <a:ext cx="48769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entury Gothic"/>
              </a:rPr>
              <a:t>Ian Tutt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General Lighthouse Authorities R&amp;RNAV Directorate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Harwich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Essex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UK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1"/>
          <a:stretch/>
        </p:blipFill>
        <p:spPr>
          <a:xfrm>
            <a:off x="1371600" y="2028960"/>
            <a:ext cx="2328840" cy="3686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Perception of Flashing Lights</a:t>
            </a:r>
            <a:endParaRPr b="1" lang="en-US" sz="4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6732720" y="2028960"/>
            <a:ext cx="22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entury Gothic"/>
              </a:rPr>
              <a:t>EEP16/INF/4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8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Apparent Intensity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763272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s the definition of effective intensity only provides for flashing lights at threshold (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n-GB" sz="2400" spc="-1" strike="noStrike" baseline="-6000">
                <a:solidFill>
                  <a:srgbClr val="000099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), we need another term to explain the perception of flashing lights above threshold at different illuminance levels (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n-GB" sz="2400" spc="-1" strike="noStrike" baseline="-6000">
                <a:solidFill>
                  <a:srgbClr val="000099"/>
                </a:solidFill>
                <a:latin typeface="Arial"/>
              </a:rPr>
              <a:t>c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t is proposed that the deprecated term “apparent intensity” (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) is revived and used for this purpose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Because the perception of a flash changes with the level of illuminance, it is proposed that a level of illuminance in microlux is stated with the apparent intensity (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Arial"/>
              </a:rPr>
              <a:t>a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, E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3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Variable </a:t>
            </a:r>
            <a:r>
              <a:rPr b="1" i="1" lang="en-GB" sz="4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 Approach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920" y="1828800"/>
            <a:ext cx="7632720" cy="19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t has been suggested that apparent intensity can be modelled by varying the value of the Blondel-Rey visual time-constant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and linking it to the value of illuminance.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 1933, Hampton suggested using a formula for such a purpose: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1908000" y="3884760"/>
                <a:ext cx="36198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Rectangle 11"/>
          <p:cNvSpPr/>
          <p:nvPr/>
        </p:nvSpPr>
        <p:spPr>
          <a:xfrm>
            <a:off x="826920" y="4581360"/>
            <a:ext cx="7632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is formula can be used to calculate a value for 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in the Blondel-Rey equation for different illuminance levels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0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Variable </a:t>
            </a:r>
            <a:r>
              <a:rPr b="1" i="1" lang="en-GB" sz="4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 Approach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pic>
        <p:nvPicPr>
          <p:cNvPr id="153" name="Picture 14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883560" cy="43354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What’s the Difference?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71640" y="1773360"/>
          <a:ext cx="7391160" cy="4267080"/>
        </p:xfrm>
        <a:graphic>
          <a:graphicData uri="http://schemas.openxmlformats.org/drawingml/2006/table">
            <a:tbl>
              <a:tblPr/>
              <a:tblGrid>
                <a:gridCol w="1631880"/>
                <a:gridCol w="1905120"/>
                <a:gridCol w="1904760"/>
                <a:gridCol w="1949400"/>
              </a:tblGrid>
              <a:tr h="13208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lash Duration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s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fectiv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ntensity </a:t>
                      </a:r>
                      <a:r>
                        <a:rPr b="0" i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pparen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ntensity </a:t>
                      </a:r>
                      <a:r>
                        <a:rPr b="0" i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a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t 0.2 </a:t>
                      </a:r>
                      <a:r>
                        <a:rPr b="0" lang="el-GR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μ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ux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% Increas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85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66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1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ut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0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Way Forward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Repeat T-S &amp; G’s experiment (rectangular flashes)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est for non-rectangular flashes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est with background luminance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est for different colours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est for different colours of light against different background colours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Find most appropriate model at each stage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Thank You</a:t>
            </a:r>
            <a:r>
              <a:rPr b="1" lang="en-GB" sz="4400" spc="-1" strike="noStrike">
                <a:solidFill>
                  <a:srgbClr val="000099"/>
                </a:solidFill>
                <a:latin typeface="Century Gothic"/>
              </a:rPr>
              <a:t>	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267080" y="508464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ian.tutt@gla-rrnav.org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267080" y="2133720"/>
            <a:ext cx="48769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entury Gothic"/>
              </a:rPr>
              <a:t>Ian Tutt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General Lighthouse Authorities R&amp;RNAV Directorate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Harwich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Essex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UK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pic>
        <p:nvPicPr>
          <p:cNvPr id="169" name="Picture 8" descr="Crammag Head"/>
          <p:cNvPicPr/>
          <p:nvPr/>
        </p:nvPicPr>
        <p:blipFill>
          <a:blip r:embed="rId1"/>
          <a:srcRect l="0" t="0" r="0" b="26577"/>
          <a:stretch/>
        </p:blipFill>
        <p:spPr>
          <a:xfrm>
            <a:off x="900000" y="2349360"/>
            <a:ext cx="3027600" cy="2961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4248000" cy="28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Luminous Range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Observer Illuminance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Effective Intensity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Apparent Intensity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What’s the difference?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Way Forward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2646360" cy="3527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5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Luminous Range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92144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Luminous Range is a calculated figure based on: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Light Intensity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lluminance at the observer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tmospheric transmissivity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From Allard: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where:  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illuminance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transmissivity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intensity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distance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is range when 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(d)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is at the threshold of perception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1476360" y="4203720"/>
                <a:ext cx="21607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ut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Threshold Illuminance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0920" y="2031480"/>
            <a:ext cx="82818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From the International Lighting Vocabulary: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i="1" lang="en-GB" sz="2500" spc="-1" strike="noStrike">
                <a:solidFill>
                  <a:srgbClr val="000066"/>
                </a:solidFill>
                <a:latin typeface="Arial"/>
              </a:rPr>
              <a:t>Threshold of illuminance: smallest illuminance produced at the eye of an observer by a light source seen in point vision, which renders the source perceptible.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000066"/>
                </a:solidFill>
                <a:latin typeface="Arial"/>
              </a:rPr>
              <a:t>Note: For visual signalling, the light source must be rendered recognisable, and hence a higher threshold of illuminance is to be expected.”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Observer Illuminance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2031840"/>
            <a:ext cx="8281800" cy="37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n 1933 an international lighthouse conference in Paris recommended that the minimum illuminance at the observer required to safely recognise an aid to navigation signal light was 0.67 sea-mile candelas (0.2 microlux)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ince then, all luminous range calculations for maritime AtoN use have been based on that illuminance figure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erefore d is the luminous range when 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(d)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in the Allard equation is 0.2 microlux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Effective Intensity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ffective intensity is defined as the luminous intensity of a steady light source that would have the sam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uminous rang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as the flashing light in question</a:t>
            </a:r>
            <a:r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Luminous range for marine AtoN signal lights is based on an observer illuminance of 0.2 microlux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However, most experiments that investigated effective intensity were based on an observer’s detection of a light at achromatic threshold of illuminance - where the observer could just detect the light (approx 0.05microlux)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Effective Intensity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828440"/>
            <a:ext cx="8135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For a rectangular flash, the Blondel-Rey equation for effective intensity is valid: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2" marL="113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where: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I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effective intensity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2" marL="113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Io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peak intensity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2" marL="113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flash duration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2" marL="113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the visual time-constant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2" marL="113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he value of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is typically 0.2 for nighttime use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is equation holds true for flashing lights at the achromatic threshold of perception (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n-GB" sz="2400" spc="-1" strike="noStrike" baseline="-6000">
                <a:solidFill>
                  <a:srgbClr val="000099"/>
                </a:solidFill>
                <a:latin typeface="Arial"/>
              </a:rPr>
              <a:t>t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1187280" y="2708280"/>
                <a:ext cx="13687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ut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7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Toulmin-Smith and Green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08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At the 1933 conference in Paris, one of the papers presented was an experiment by Toulmin-Smith and Green of UK.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heir experiment investigated the perception of flashing lights at illuminances above threshold (supra-threshold) – the flash profiles were rectangular.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hey used ‘brightness matching’ to plot curves of visual perception at 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n-GB" sz="2400" spc="-1" strike="noStrike" baseline="-6000">
                <a:solidFill>
                  <a:srgbClr val="000099"/>
                </a:solidFill>
                <a:latin typeface="Arial"/>
              </a:rPr>
              <a:t>t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threshold)</a:t>
            </a:r>
            <a:r>
              <a:rPr b="0" lang="en-GB" sz="2400" spc="-1" strike="noStrike" baseline="-6000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nd several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lluminance values of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 E</a:t>
            </a:r>
            <a:r>
              <a:rPr b="0" i="1" lang="en-GB" sz="2400" spc="-1" strike="noStrike" baseline="-6000">
                <a:solidFill>
                  <a:srgbClr val="000099"/>
                </a:solidFill>
                <a:latin typeface="Arial"/>
              </a:rPr>
              <a:t>c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supra-threshold)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pic>
        <p:nvPicPr>
          <p:cNvPr id="133" name="Picture 7" descr="T-S&amp;G_fig5 t negative from Air Ministry Paper"/>
          <p:cNvPicPr/>
          <p:nvPr/>
        </p:nvPicPr>
        <p:blipFill>
          <a:blip r:embed="rId1"/>
          <a:stretch/>
        </p:blipFill>
        <p:spPr>
          <a:xfrm>
            <a:off x="684360" y="1700280"/>
            <a:ext cx="4967280" cy="44989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Toulmin-Smith and Green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22560" y="2852280"/>
            <a:ext cx="342108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xtract from Toulmin-Smith and Green’s paper of 1933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15:28:25Z</dcterms:created>
  <dc:creator>Ian Tutt</dc:creator>
  <dc:description/>
  <dc:language>en-US</dc:language>
  <cp:lastModifiedBy>Mike Hadley</cp:lastModifiedBy>
  <dcterms:modified xsi:type="dcterms:W3CDTF">2011-02-14T10:37:16Z</dcterms:modified>
  <cp:revision>193</cp:revision>
  <dc:subject/>
  <dc:title>Lights Strategy Workshop</dc:title>
</cp:coreProperties>
</file>